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1EC7-890E-4B39-A893-278B6CB8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BF0-7F45-49A7-AC5C-D87A1890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8CF-65C4-4B5C-8496-3DCF68D2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AA5-F05F-45AD-BF2F-AE9D1EE9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F22-BA8B-4060-ABF8-8FF183F4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969-98C5-4C14-A555-A20C4E8D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2EF-B62B-4EDD-AA2B-10A3796A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942-5FB3-4055-9B12-0EB75F2E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6B3A-B56E-464F-85D2-CB54DB72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29F-CA0C-4CFD-A467-2B623857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EF2-694B-41A6-AEAD-A4A3D302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85A-9D78-4D16-847E-8052C356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B895-9D40-493A-8748-C36CCDE3D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Big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T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QUESTION of the WEE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for January 11 - 15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362240" cy="1047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280" y="16765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volcano is a mountain that opens dow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d to a pool of molten (or melted) roc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pressure builds up, the volc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upts. What i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d scientists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the time whe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cano is asle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40080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oogle Images,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3489480"/>
            <a:ext cx="40384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01:52:30Z</dcterms:created>
  <dc:creator>Brian Hite</dc:creator>
  <dc:description/>
  <dc:language>en-US</dc:language>
  <cp:lastModifiedBy>Brian Hite</cp:lastModifiedBy>
  <cp:lastPrinted>2009-10-05T01:42:40Z</cp:lastPrinted>
  <dcterms:modified xsi:type="dcterms:W3CDTF">2010-01-11T11:09:48Z</dcterms:modified>
  <cp:revision>80</cp:revision>
  <dc:subject/>
  <dc:title>                 The Big6TM QUESTION of the WEEK              for September 15 - 19, 2008</dc:title>
</cp:coreProperties>
</file>